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3F40-D8B7-45E5-88D9-05244968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79DB-552D-45EC-A553-74755066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D0A5-77D5-4662-AE5E-98F49354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190-A0B0-4372-97A5-DB07DAB5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4CB1-A8F0-4A8B-A933-3EA28B60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7CC5-3CD9-49FE-8CB4-12FBD032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134F-3170-499E-B220-3EFD2EAB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7B2E-913B-4FBB-A782-37BB9FB3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1F2B-4713-4815-888E-D0B87BA0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8B7B-C0CD-4D7A-9DF5-ADEAE306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677-FEDC-4B8E-82D9-AE34B799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97FE-D54E-48D4-8182-379AC60F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C6CD-C4E9-4F33-9BF2-57E3FC6E7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2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3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4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5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6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7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8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9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10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11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12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13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14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15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16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17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18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19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20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21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22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23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24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25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26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27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28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29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30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31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32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33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34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35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3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TEMA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16000" y="3716280"/>
            <a:ext cx="6912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Magmatismo y tectónica de pla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Por qué se form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1628640"/>
            <a:ext cx="6624720" cy="30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se origine un tipo de magma u otro depende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ición de la roca fuente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na y mater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sión parcial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sición quí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milación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es añad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cla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sión de mag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stalización fraccionada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locidad de enfriamien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3280" y="2492280"/>
            <a:ext cx="432000" cy="216000"/>
          </a:xfrm>
          <a:custGeom>
            <a:avLst/>
            <a:gdLst>
              <a:gd name="textAreaLeft" fmla="*/ 54000 w 432000"/>
              <a:gd name="textAreaRight" fmla="*/ 378000 w 43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2924280"/>
            <a:ext cx="432000" cy="215640"/>
          </a:xfrm>
          <a:custGeom>
            <a:avLst/>
            <a:gdLst>
              <a:gd name="textAreaLeft" fmla="*/ 54000 w 432000"/>
              <a:gd name="textAreaRight" fmla="*/ 378000 w 432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27280" y="3357720"/>
            <a:ext cx="432000" cy="215640"/>
          </a:xfrm>
          <a:custGeom>
            <a:avLst/>
            <a:gdLst>
              <a:gd name="textAreaLeft" fmla="*/ 54000 w 432000"/>
              <a:gd name="textAreaRight" fmla="*/ 378000 w 432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3789360"/>
            <a:ext cx="432000" cy="216000"/>
          </a:xfrm>
          <a:custGeom>
            <a:avLst/>
            <a:gdLst>
              <a:gd name="textAreaLeft" fmla="*/ 54000 w 432000"/>
              <a:gd name="textAreaRight" fmla="*/ 378000 w 43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40360" y="4149720"/>
            <a:ext cx="431640" cy="216000"/>
          </a:xfrm>
          <a:custGeom>
            <a:avLst/>
            <a:gdLst>
              <a:gd name="textAreaLeft" fmla="*/ 54000 w 431640"/>
              <a:gd name="textAreaRight" fmla="*/ 378000 w 431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ulcanismo intrapla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50480" y="1773360"/>
            <a:ext cx="71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17 % del vulcanismo ocurre en el interior de las placas litosfér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797520" cy="3824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ulcanismo de origen tectó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170028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romperse la corteza se produce una liberación de presión que fomenta la formación del mag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7056720" cy="3630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234936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oogle.es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url?sa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=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t&amp;rct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=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j&amp;q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=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origen%20de%20las%20islas%20canarias&amp;source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=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video&amp;cd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=1&amp;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cad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=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rja&amp;uact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=8&amp;ved=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0CCgQtwIwAGoVChMIm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-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m8msrMyAIVyrYaCh3sQQRp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&amp;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url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=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%3A%2F%2Fwww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youtube.com%2Fwatch%3Fv%3Dmf5vY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_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JVt_w&amp;usg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=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AFQjCNF9e2B5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-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6YJzArq7PxbqBMy3iJguw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&amp;sig2=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IRNoriy2qpim4qyQjucj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7240" y="476280"/>
            <a:ext cx="700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origen de las islas Cana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plazamientos y morfologías magmát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19640" y="1916280"/>
            <a:ext cx="5580000" cy="4378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5280" y="2060640"/>
            <a:ext cx="295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el lugar en el  que el magma detiene su ascenso y se solidi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se solidifica en el interior, las rocas que forman se llama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intrusiv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y si lo hace en el exterior,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trusiv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76720" y="1052640"/>
            <a:ext cx="5556240" cy="35877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lazamientos en profund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413000"/>
            <a:ext cx="31669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más importante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ut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 Masa de roca intrusiva en gran proporción, si supera los 100 km se denomina batol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colito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u forma se asemeja a la de una lente (abombada) se forma cuando se acumula magma bajo los estr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4653000"/>
            <a:ext cx="851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ll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Fino, alargado y de pequeñas dimensiones, se forma al rellenarse de magma espacios horizontales entre estr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qu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 También fino y alargado se forma cuando el magma se introduce por las fracturas perpendiculares a los estr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lazamientos en superfi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484280"/>
            <a:ext cx="230508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 forma al acumularse materiales en torno al crá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menea volcánic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 el conducto por el cual asciende el magma hasta alcanzar la superfic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der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presión circular de mayor tamaño que el cráter formada mediante erosión o una fuerte explo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6591240" cy="4076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origen del ma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1557360"/>
            <a:ext cx="68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dido silicatado compuesto por una parte líquida, una sólida y una gase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599160" cy="3867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Cómo se forma el magm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3573360"/>
            <a:ext cx="33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773360"/>
            <a:ext cx="856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mente el manto y la corteza se encuentran en estado sólido, pero sus rocas pu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egar a fundirse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isminución de 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umento de 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corporación de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fusión par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557360"/>
            <a:ext cx="381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rocas están compuestas por diferentes minerales, cada uno con un punto diferente de fusión, esto hace que la roca no se funda de forma unifor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216240" cy="4824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¿Dónde se localiza el magmatism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47640" y="1781280"/>
            <a:ext cx="6767640" cy="5076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87280" y="126828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mayor parte en los límites de las placas litosfér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Por qué asciende el magm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1628640"/>
            <a:ext cx="825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que su densidad es menor que la de las rocas que lo rod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56000" y="2384280"/>
            <a:ext cx="4392360" cy="3694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ersidad de mag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7731000" cy="3595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sición química del mag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1700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análisis de las rocas magmáticas muestra que este está compuesto en una alta proporción por 8 elemen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455292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mag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056360" cy="5292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03640" y="6165720"/>
            <a:ext cx="44654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e menos del 45% de síl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9440" y="5950080"/>
            <a:ext cx="157680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be0e3"/>
                </a:solidFill>
                <a:latin typeface="Arial"/>
              </a:rPr>
              <a:t>Ultramáfico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8T16:23:09Z</dcterms:created>
  <dc:creator>TOSH</dc:creator>
  <dc:description/>
  <dc:language>en-US</dc:language>
  <cp:lastModifiedBy>TOSH</cp:lastModifiedBy>
  <dcterms:modified xsi:type="dcterms:W3CDTF">2015-10-29T22:34:02Z</dcterms:modified>
  <cp:revision>10</cp:revision>
  <dc:subject/>
  <dc:title>Diapositiva 1</dc:title>
</cp:coreProperties>
</file>